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5BDC-A19E-4FF4-8689-8F3592AED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951C-77A6-4DD5-BC25-8ECBD5D42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B7E2-AC58-40D3-8C7E-6FF26E521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381D-78C5-4084-ACEA-7887B1A41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6BDCA-E685-493D-919A-90D5B7BA2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4EDBD-3A75-4D17-AA55-F6B8F8A6A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672A3-DBBC-4240-99F7-C699B19A6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07EBA-2C4B-418F-967A-0C221562F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030C4-9AF9-4507-AEBA-28D8540B5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3554B-704C-4ECE-922C-2AEB7E8C9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7C36F-573B-4D5B-9EB6-EF8B9A2C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8B0B-16B8-48D8-B619-F4BF47E22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0CE41-FF51-4C54-A366-07B694E7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E9683-32C7-4BCF-B2F8-E3D80BFB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9B7B7-D56D-419C-BEFE-6A6A439FE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080C7-A293-48E4-BDC4-D991CE70A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5AF78-EFDC-4E74-89B5-E58DABAF1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FE86-72A2-4CF6-97E6-C4F50F0CC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47E8-6CD1-4011-9881-3FAF0F63D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546A-854A-41CD-B44F-1C4CE29DD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D060-E6CD-4E09-B498-E06F65537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A913-09A1-45F1-B797-BC3A2F19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B38B-ADDF-4C31-BA5F-7908D3D1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FD6D-87F4-40B6-816F-5ACDD086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194A9-25BF-4590-8CCB-2F830AF91CC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D700F-E6FD-4EEB-9C8F-8C227BE33AF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onfessions of a Recovering Google-phob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esentation for Feast at the Fo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bruary 4,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ren Apple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irie Lakes A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Google Searching…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searching = too many h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orly sorted hits = risky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hits = difficulty determining rel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New Google Tools…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82520" y="1241280"/>
            <a:ext cx="8748720" cy="52498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457880" y="1278000"/>
            <a:ext cx="88560" cy="21276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55800" y="2043000"/>
            <a:ext cx="576360" cy="400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03120" y="992160"/>
            <a:ext cx="8639280" cy="51847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99880" y="3657600"/>
            <a:ext cx="1603440" cy="312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9960" y="5060880"/>
            <a:ext cx="1766880" cy="425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97560" y="3606840"/>
            <a:ext cx="1603080" cy="376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4108320"/>
            <a:ext cx="1577880" cy="351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58840" y="938160"/>
            <a:ext cx="8223120" cy="49341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904160" y="1728720"/>
            <a:ext cx="650880" cy="338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57120" y="855720"/>
            <a:ext cx="8516880" cy="51102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265400" y="4471920"/>
            <a:ext cx="2317680" cy="274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4T03:10:30Z</dcterms:created>
  <dc:creator>Karen Appleton</dc:creator>
  <dc:description/>
  <dc:language>en-US</dc:language>
  <cp:lastModifiedBy>Karen Appleton</cp:lastModifiedBy>
  <dcterms:modified xsi:type="dcterms:W3CDTF">2009-02-04T04:14:29Z</dcterms:modified>
  <cp:revision>4</cp:revision>
  <dc:subject/>
  <dc:title>Confessions of a Recovering Google-phob</dc:title>
</cp:coreProperties>
</file>